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C74-52BF-413C-84B3-74536946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D39-B7B1-40F7-9C5E-79AF3A5B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A07-7F23-41D0-AB70-3187CC95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EFE-EB7F-4F9A-A854-F55C58F8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746-B0B5-443D-BBCE-BB49C6D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533-0D69-462D-9EA4-FEADB61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2E3-7131-4DDD-A7B6-EB4EF8F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84C-362F-4B4F-8880-BB027438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A3F-F343-4876-9C45-376C3F82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62D-5AA9-458F-8899-4766C068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182-73E7-4C9B-9B25-AA16C2E4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014-D8DE-4AA0-97D9-20EEF58E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107F-7B63-4A2F-8AF7-01B0E410B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roduct Analys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is range of Graphic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259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w choose one graphic product to analyse in deta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this criteria to help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260280"/>
            <a:ext cx="56898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What does the product have to do? What is it f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What is its primary function and secondary fun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Does it do the job it was designed f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o is the customer? Who is the user? Are they the sa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are their needs likely to b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Ergo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Is the product comfortable to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the product pleasing to look at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 the colours and textures suit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it well finish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Could the quality of the design or the quality of the manufacture be improv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terials and manufa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materials are being use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is it manufacture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ch production process is used: one-off, batch or mass produ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How does the cost compare with similar product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roduct life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 long is the product expected to las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Is the product safe to us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Are there any sharp edges or loose part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Environmental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es the product harm the environ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s any pollution caused during manufact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7280" y="765000"/>
            <a:ext cx="47037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s the primary function of this produc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secondary function?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be the market that this product is aimed a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359160" cy="59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4653000" cy="604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907920"/>
            <a:ext cx="489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10 points that may be included in the specification for this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he ergonomic designs of this range of soft drinks contain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7714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1714680" cy="288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524720" y="1484280"/>
            <a:ext cx="1276560" cy="390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4000" y="4076640"/>
            <a:ext cx="1523880" cy="2381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435640" y="3573360"/>
            <a:ext cx="188604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85760" cy="183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88000" y="692280"/>
            <a:ext cx="38988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at does this poster tell you about the film?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most prominent feature of the poster? Why have the designers made this so promin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87520" cy="619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the layout and content of these business card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your favourite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514680" cy="2067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3456000" cy="1974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527280" cy="201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527640" cy="201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5229360"/>
            <a:ext cx="81471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following two slides show a detailed analysis of the board game, ‘Monopoly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8893080" cy="664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1:10:00Z</dcterms:created>
  <dc:creator>hilliers</dc:creator>
  <dc:description/>
  <dc:language>en-US</dc:language>
  <cp:lastModifiedBy>hilliers</cp:lastModifiedBy>
  <dcterms:modified xsi:type="dcterms:W3CDTF">2006-11-30T09:07:53Z</dcterms:modified>
  <cp:revision>10</cp:revision>
  <dc:subject/>
  <dc:title>Product Analysis</dc:title>
</cp:coreProperties>
</file>